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E8F0-BBD8-42C8-9170-70A36A926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F431-DDED-41FB-A170-56DEF5C7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7098-7AFB-4E9D-B5E8-F416BE24D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8AE9-CA41-4B19-878B-8C3A2C5D9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89F4-E5DF-49AA-B294-14C8BB029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B9C4-1F9A-4E8D-8AA9-5C66031C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D141-38FA-42B4-83B2-25567888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EFCE-4282-476A-A00F-A792C226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C3F5-60FA-4300-8BA9-11629DB3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0166-5EB0-4A3F-AE9D-8AE9EF1E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9F78-8792-41BE-AE20-04658FBC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32B4-95AF-47FE-BB8F-5AC33F98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5219-D806-47D3-B7C9-B7E9CF0C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E660-3239-4E0D-B978-2B463701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B962-ECB9-4030-917E-D0AC5807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C8AA-CA03-4F6C-9577-89B83E4B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4BA3-391F-40CD-857C-A865E3543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74CA5-2AF8-4CFC-A2BD-20BE21633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EB66E-0638-4F98-AE8D-719A0B8A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2511F-B175-4E91-B18B-D5D95700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7A3DD-D9A5-4A44-997C-096C980D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FF1FB-0A09-460B-8140-EB49DCAB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AAED-29D8-4CBB-AF52-C023FCF3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EA626-53F4-434A-BA02-39C66E26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BCC74-6BFB-43FA-ABEF-CD7EA314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AB1FF-E476-49BF-88DE-625487A9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B32DC-6546-4D7C-B446-BE140CF9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B8347-612E-4432-9B7F-3807A97D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27641-A77E-4755-8F82-1846BBF65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5EC22-84F8-406B-805B-E70B68B8B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4A23-C979-469E-A9D9-0DB6DEE7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8657-09EC-4FD8-ADDA-20EC4703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C88A-C1FF-4078-9CA3-457C8F8E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E948-434B-4E85-A257-3029520B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7470-AB9F-4709-99F2-14AC6263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431B-FF0F-475B-A4EE-2B60FA5D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C8AB-DA84-40B2-9208-AC898363B5C7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8422-84AB-4708-A1B8-1D9A0B54851B}" type="slidenum">
              <a:rPr b="0" lang="sv-S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815D-D6D4-4467-B18C-64A4E3868F19}" type="slidenum">
              <a:rPr b="0" lang="sv-S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94a4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llips 9"/>
          <p:cNvSpPr/>
          <p:nvPr/>
        </p:nvSpPr>
        <p:spPr>
          <a:xfrm>
            <a:off x="-252360" y="-387360"/>
            <a:ext cx="5545080" cy="5545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5084280"/>
            <a:ext cx="87138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0" spc="-1" strike="noStrike">
                <a:solidFill>
                  <a:srgbClr val="545352"/>
                </a:solidFill>
                <a:latin typeface="Bebas Neue"/>
              </a:rPr>
              <a:t>NAMN/RUBRIK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Bildobjekt 1" descr=""/>
          <p:cNvPicPr/>
          <p:nvPr/>
        </p:nvPicPr>
        <p:blipFill>
          <a:blip r:embed="rId1"/>
          <a:stretch/>
        </p:blipFill>
        <p:spPr>
          <a:xfrm>
            <a:off x="-179280" y="-314280"/>
            <a:ext cx="539892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567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Bildobjekt 4" descr=""/>
          <p:cNvPicPr/>
          <p:nvPr/>
        </p:nvPicPr>
        <p:blipFill>
          <a:blip r:embed="rId1"/>
          <a:srcRect l="0" t="0" r="0" b="16001"/>
          <a:stretch/>
        </p:blipFill>
        <p:spPr>
          <a:xfrm>
            <a:off x="1380960" y="1125360"/>
            <a:ext cx="6359760" cy="35528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27" name="Rektangel 6"/>
          <p:cNvSpPr/>
          <p:nvPr/>
        </p:nvSpPr>
        <p:spPr>
          <a:xfrm>
            <a:off x="324000" y="4869000"/>
            <a:ext cx="84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0" spc="-1" strike="noStrike">
                <a:solidFill>
                  <a:srgbClr val="545352"/>
                </a:solidFill>
                <a:latin typeface="Bebas Neue"/>
                <a:ea typeface="Arial"/>
              </a:rPr>
              <a:t>EN RUBRIK</a:t>
            </a:r>
            <a:r>
              <a:rPr b="0" lang="sv-SE" sz="4400" spc="-1" strike="noStrike">
                <a:solidFill>
                  <a:srgbClr val="545352"/>
                </a:solidFill>
                <a:latin typeface="Bebas Neue"/>
                <a:ea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Bildobjekt 8" descr=""/>
          <p:cNvPicPr/>
          <p:nvPr/>
        </p:nvPicPr>
        <p:blipFill>
          <a:blip r:embed="rId2"/>
          <a:stretch/>
        </p:blipFill>
        <p:spPr>
          <a:xfrm>
            <a:off x="900000" y="792000"/>
            <a:ext cx="126864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545352"/>
                </a:solidFill>
                <a:latin typeface="Bebas Neue"/>
              </a:rPr>
              <a:t>RUBRIK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latshållare för innehåll 1" descr=""/>
          <p:cNvPicPr/>
          <p:nvPr/>
        </p:nvPicPr>
        <p:blipFill>
          <a:blip r:embed="rId1"/>
          <a:stretch/>
        </p:blipFill>
        <p:spPr>
          <a:xfrm>
            <a:off x="7326360" y="5148360"/>
            <a:ext cx="126828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7530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545352"/>
                </a:solidFill>
                <a:latin typeface="Bebas Neue"/>
              </a:rPr>
              <a:t>RUBRIK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latshållare för innehåll 1" descr=""/>
          <p:cNvPicPr/>
          <p:nvPr/>
        </p:nvPicPr>
        <p:blipFill>
          <a:blip r:embed="rId1"/>
          <a:stretch/>
        </p:blipFill>
        <p:spPr>
          <a:xfrm>
            <a:off x="7205760" y="4984920"/>
            <a:ext cx="13557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35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545352"/>
                </a:solidFill>
                <a:latin typeface="Bebas Neue"/>
              </a:rPr>
              <a:t>RUBRIK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latshållare för innehåll 1" descr=""/>
          <p:cNvPicPr/>
          <p:nvPr/>
        </p:nvPicPr>
        <p:blipFill>
          <a:blip r:embed="rId1"/>
          <a:stretch/>
        </p:blipFill>
        <p:spPr>
          <a:xfrm>
            <a:off x="7308720" y="5084640"/>
            <a:ext cx="1427400" cy="14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1a17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545352"/>
                </a:solidFill>
                <a:latin typeface="Bebas Neue"/>
              </a:rPr>
              <a:t>RUBRIK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latshållare för innehåll 1" descr=""/>
          <p:cNvPicPr/>
          <p:nvPr/>
        </p:nvPicPr>
        <p:blipFill>
          <a:blip r:embed="rId1"/>
          <a:stretch/>
        </p:blipFill>
        <p:spPr>
          <a:xfrm>
            <a:off x="6948360" y="4849920"/>
            <a:ext cx="137808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11280" y="27432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545352"/>
                </a:solidFill>
                <a:latin typeface="Bebas Neue"/>
              </a:rPr>
              <a:t>Rubrik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latshållare för innehåll 8" descr=""/>
          <p:cNvPicPr/>
          <p:nvPr/>
        </p:nvPicPr>
        <p:blipFill>
          <a:blip r:embed="rId1"/>
          <a:srcRect l="32026" t="781" r="30793" b="1681"/>
          <a:stretch/>
        </p:blipFill>
        <p:spPr>
          <a:xfrm>
            <a:off x="684360" y="620640"/>
            <a:ext cx="3176280" cy="55450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39" name="Text Box 6"/>
          <p:cNvSpPr/>
          <p:nvPr/>
        </p:nvSpPr>
        <p:spPr>
          <a:xfrm>
            <a:off x="4140360" y="1557360"/>
            <a:ext cx="417672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Oswa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Oswald"/>
                <a:ea typeface="Arial"/>
              </a:rPr>
              <a:t> </a:t>
            </a:r>
            <a:r>
              <a:rPr b="0" lang="sv-SE" sz="2400" spc="-1" strike="noStrike">
                <a:solidFill>
                  <a:srgbClr val="000000"/>
                </a:solidFill>
                <a:latin typeface="Oswald"/>
                <a:ea typeface="Arial"/>
              </a:rPr>
              <a:t>Punkt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Oswa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Bildobjekt 2" descr=""/>
          <p:cNvPicPr/>
          <p:nvPr/>
        </p:nvPicPr>
        <p:blipFill>
          <a:blip r:embed="rId2"/>
          <a:stretch/>
        </p:blipFill>
        <p:spPr>
          <a:xfrm>
            <a:off x="179280" y="76320"/>
            <a:ext cx="13417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14:30Z</dcterms:created>
  <dc:creator>Karin Wenström</dc:creator>
  <dc:description/>
  <dc:language>en-US</dc:language>
  <cp:lastModifiedBy>Karin Wenström</cp:lastModifiedBy>
  <dcterms:modified xsi:type="dcterms:W3CDTF">2019-04-09T11:20:25Z</dcterms:modified>
  <cp:revision>36</cp:revision>
  <dc:subject/>
  <dc:title>PowerPoint-presentation</dc:title>
</cp:coreProperties>
</file>